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24E-0A27-46C8-80AC-726F9405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342-E82D-4175-BD95-CF5231A2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33F-CA18-48D1-B94E-5E60D4A3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273-8098-464B-AD5E-A4FDE4E9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E89-2412-4F73-ACAF-9DACD4D6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454E-0693-48E0-9145-29B548F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07D-C301-4635-AB21-20E473A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252-C35E-46FE-B683-99DAE2F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A5F-411C-40E7-AFEF-E47A9A1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5A3E-1743-46A0-9BA5-66011F8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4435-932A-435E-ACA8-7CC911A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021-884F-4F8B-B6DC-CDABCCBF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FBC-ED9C-4A5F-9BA2-73697D5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F3F0-CDA4-4688-99D4-E93346A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539-696C-4B21-BD41-9A3F773C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B9F-2E89-45E1-B803-A5DFE896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F0D3-B154-49A9-B2E2-52E59D22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7EE-2CFB-4690-A10B-4F26DD1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CA-71C8-4F4F-8E4D-DFF0D488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13F-DE4F-4761-976C-317C8097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1E1-8D94-4522-8962-A1020B4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41F-E204-4B55-961C-9F6B79F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46B-3979-4898-A30E-79EC074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0F3-C64F-47DB-99EF-35666D1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D1D-D168-4828-B04A-E16395446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FB82-C67A-4658-84CA-47A78640C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08T23:44:18Z</dcterms:modified>
  <cp:revision>14</cp:revision>
  <dc:subject/>
  <dc:title>AUXILIAR 1</dc:title>
</cp:coreProperties>
</file>